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013-B45D-4F62-8718-D4EB8887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C89B-CC9B-44CE-B2B2-8A9A8DEF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8B2-4A21-45A1-88C1-7E346E67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3F0-4C6D-4E2C-A3EA-4343ABA3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8F83-2DF5-4226-8B87-C16BBB2C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6DAF-E91B-4D4C-A746-1E15B1A1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4E4A-5AEE-473A-AF0F-680A248E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C465-3BED-4035-B680-7D7FCF2A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BD71-2858-4665-902A-8AF60990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BE26-8AB1-4E88-AEF0-090B248D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68B3-72AE-46DD-BEA3-0D8C858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B95-2BEB-4023-862D-B62DD31B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6422-8CD5-4D82-B3D1-42AAAA2B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A921-F63C-4E09-B194-4307E0D4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4B09-D9E3-403B-A70B-325B5052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6786-CE79-4246-9862-BDD96EF2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34E2-2687-4876-9DCF-F567E0A2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B24-FEEC-484C-B700-0D08BAE5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162-CEFC-4CCB-99ED-3B0D3F25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DC6-372F-419C-AB61-57D5A0C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998-F1DC-48DA-A292-B32F4A51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602-0019-4674-8BCE-D9F04E9C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2D6-1550-489F-90A6-F82F8422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45A-78BD-4F68-B33D-CABB566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629F-199D-47BC-9234-1490F6C5D3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A420-3DD6-4A74-8F28-8DB40EC786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Using Excel “sliders” in Physics worksheet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AAPT Spr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Schn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rence Tech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_schneider@lt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nging Properties - Active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nked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Max/M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Large/Small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Otherwise – same operation as forms sl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ut, we might have just triggered an empty macro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1219320"/>
            <a:ext cx="2590560" cy="4733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486400" y="3276720"/>
            <a:ext cx="1600200" cy="152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3581280"/>
            <a:ext cx="1600200" cy="30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971800"/>
            <a:ext cx="1600200" cy="152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4952880"/>
            <a:ext cx="1600200" cy="152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moving empty Macro co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void getting the “macro warning” messages – click the SHOW CODE ic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uble-click through pages – delete any empty macro code – close editor – save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5991480" cy="409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57400" y="1981080"/>
            <a:ext cx="5335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4419360" cy="2334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400800" y="426708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eems like any time you modify the slider – triggers the empty macro – must clean u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Question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ich kind of slid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s” slider – easy to use – recommende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X” slider – more powerful – more complica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676920" cy="409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5991120" cy="4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05520" y="2209680"/>
            <a:ext cx="76176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4724280"/>
            <a:ext cx="7621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use sliders in Excel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ed to adjust variable value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on’t want to keep plugging in number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ant to illustrate effect of changing a variable in an equation/graph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tie a slider (plus some “scaling” equations to a grap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with modeling/matching lab data to mathematical/physics eq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ding simple Forms “slider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play the Form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nu b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slider to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l work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ght click to change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2971800" cy="24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267080" y="3733920"/>
          <a:ext cx="3714840" cy="3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3733920"/>
                    <a:ext cx="37148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191120" y="4267080"/>
            <a:ext cx="38480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nging features of simple sli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t Min/Max and Cell Li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mental = “click on arrow”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ge change = “click in slider” chan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3162240"/>
            <a:ext cx="8172360" cy="2933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19320" y="571500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usually set Page Change to 1-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Incremental to 0.1 – 1 % of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d equations for “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dvanced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” sli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ut the slider value to cell “RAW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cells to mirror slider max/m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user-changeable cells for Min M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equation to “scale” slider out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6520" y="3968640"/>
            <a:ext cx="8103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nect slider output to graph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d in early “modeling” lab experi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aken from Logger P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ched to “math” equation with exc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need to connect values to physics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mped Harmonic Mo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aken by DataStu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ch to general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tunable variables – sliders = EASY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watch effects of changes on grap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use ActiveX controls instead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6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ant a graphically large slider b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zes better than Form sli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need to “trap event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d error trapping – not for faint of hear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ightly different way to modify set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’t just right-click to format – toolbar nee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Warn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easy to trigger “macro protection”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– we can fix that! (Unless you are trapping events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tiveX control sli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CONTROL toolb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on slider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to worksh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on “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Desig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icon - then on slider - then “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Propert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ic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343320" cy="2114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5991480" cy="409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029200" y="3048120"/>
            <a:ext cx="7621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04960" y="5562720"/>
            <a:ext cx="5991120" cy="409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28640" y="5334120"/>
            <a:ext cx="53352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85840" y="5334120"/>
            <a:ext cx="533520" cy="99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0:21:18Z</dcterms:created>
  <dc:creator>s_schneider</dc:creator>
  <dc:description/>
  <dc:language>en-US</dc:language>
  <cp:lastModifiedBy>s_schneider</cp:lastModifiedBy>
  <dcterms:modified xsi:type="dcterms:W3CDTF">2008-04-10T13:06:43Z</dcterms:modified>
  <cp:revision>9</cp:revision>
  <dc:subject/>
  <dc:title>Using Excel “sliders” in Physics worksheets</dc:title>
</cp:coreProperties>
</file>