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79E-7C63-4DF2-9E16-D330217B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86B-3C16-4CE6-BFCD-BEC0471B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382-2301-415C-B3D0-9B34E8A1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2C4-DFA8-483E-9A5D-02D5D364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EC57-3DF0-480C-987A-F222161F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5EC-E2B3-4ECE-B6A5-E99486E5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DEB0-D369-42D9-BBFD-9B028086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729A-8DEC-4B8F-A4EC-EFFECB18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4E73-4DCF-43F5-83C6-53D6A3CA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71C4-8CDC-431E-A0DA-0AE34D2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62B8-4F3D-488C-863C-55140D62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F21-4EB3-4C55-A6A0-49BEDA99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E797-1AA3-4C24-9D22-41D5209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1EEC-FCE6-4318-A641-34BDB01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3209-757F-4510-8195-43ECEDAE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205F-79B2-432D-BD71-5BED74B1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D894-3A22-4A74-860E-654CB50A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466-D11F-414E-9FC0-A55112B1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B83-1F53-4663-9323-BB35995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FD5-F973-4122-91A5-91B26591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9C4-42EF-4DD5-B972-F4D7B5A6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86D-6395-40BC-AF1F-F2B1D97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8A2-74BD-4F06-A793-7DF984E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BD1-16C1-4EB8-B808-3ED0E48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EC7A-7C36-49B2-9C50-11978A00B4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958B-66D7-46A9-8D59-BE12CAAA00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mwork in Phys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A team is a small number of people with complimentary skills who are committed to a common purpose, performance goals, and approach for which they hold themselves mutually accountable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atzenbach &amp;Smith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Wisdom of Team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am vs Group Perform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” sometimes about as effective as individual memb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eam can create a greater impact and be more eff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43440" y="2014560"/>
            <a:ext cx="3524400" cy="3743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19051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ams this ter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 students – rotating “roles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y together the whole term (important to access/build strength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“Codes of Cooperation” – help create account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iodic “Process Checks” to promote the health of the team – identify conc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am Projects/Gr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-class, informal projects (teams/pairs sit together in lectu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on team project worked on during worksho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l and/or Team grades recorde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meworks/Tests – individual eff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23:32:26Z</dcterms:created>
  <dc:creator>Administrator</dc:creator>
  <dc:description/>
  <dc:language>en-US</dc:language>
  <cp:lastModifiedBy>s_schneider</cp:lastModifiedBy>
  <dcterms:modified xsi:type="dcterms:W3CDTF">2006-09-04T22:32:54Z</dcterms:modified>
  <cp:revision>5</cp:revision>
  <dc:subject/>
  <dc:title>Teamwork in Physics</dc:title>
</cp:coreProperties>
</file>