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56D-9422-49DF-AEFB-692E9302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272-55F1-46A3-84AD-76C3E12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3BF-3E52-42AC-A124-BC89B867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CB5-42D4-461B-B4DE-2A7B0DF4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D076-13B3-4885-9EA7-8DAA9736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B9F-45C3-4549-A117-FB9477FE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00D4-D537-4C71-A851-3F7CADAB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E5B5-3FB1-4976-AEBE-54568F76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79D5-7F69-497F-9932-02DFDEFD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CF73-DDB3-491B-9AAF-FA57F576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0519-A27C-40A6-B172-A39293E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D29-9890-4501-BFFF-A3EA396D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5E0-A52D-4432-B416-874B2996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38CA-292F-4694-9CD2-BEB67091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7C45-6E50-4E95-9958-86A2F868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E215-43E6-4D66-8586-3FCB26E4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434E-9474-4084-AA23-6573C6D2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05FF-E9F3-48CC-8274-52D3CBE9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56D-48AD-40C7-830D-525E764F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D23-D0D9-4B65-8922-41FB08F4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D42-3194-4875-A17E-8CF72B95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490-5201-4E1A-9C10-BBDE511A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384-890C-4821-919A-8D32A16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23A-8657-4440-9A42-8EED92A6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63EB-6A59-4E57-B79D-FE806744CC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3F66-A6AF-4606-9AC3-ED23885D06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amwork in Calcul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28195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A team is a small number of people with complimentary skills who are committed to a common purpose, performance goals, and approach for which they hold themselves mutually accountable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atzenbach &amp;Smith</a:t>
            </a: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Wisdom of Team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am vs Group Perform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” sometimes about as effective as individual memb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Team can create a greater impact and be more eff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843440" y="2014560"/>
            <a:ext cx="3524400" cy="3743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0" y="19051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ams this ter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 students – rotating “roles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y together the whole term (important to access/build strength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“Codes of Cooperation” – help create accountabi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iodic “Process Checks” to promote the health of the team – identify conc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am Projects/Gr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-class, informal projects (teams/pairs sit together in lectu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on team project worked on during worksho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l and/or Team grades recorde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meworks/Tests – individual eff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23:32:26Z</dcterms:created>
  <dc:creator>Administrator</dc:creator>
  <dc:description/>
  <dc:language>en-US</dc:language>
  <cp:lastModifiedBy>s_schneider</cp:lastModifiedBy>
  <dcterms:modified xsi:type="dcterms:W3CDTF">2006-09-04T22:33:17Z</dcterms:modified>
  <cp:revision>6</cp:revision>
  <dc:subject/>
  <dc:title>Teamwork in Physics</dc:title>
</cp:coreProperties>
</file>