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EF3-A202-407C-B291-98B7178E0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DC5-98F2-4AC4-B79A-27626526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1F2-AB90-413B-BDB7-E2FE1C7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D63-6835-4737-AFA8-9DB0AD35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F40-B582-42C4-9200-354785F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7CE-C98D-4405-A313-7D781F7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0B1-030B-44C5-8620-7872AA0C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32A-3C65-4C9D-90F2-D7429CD7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AE8-172E-4FFC-8E0A-C297E1C7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783-E65C-442E-9586-61A2AD76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F5F-9799-4B0E-AFF8-7F7E5E6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619-A967-481D-B3CE-EC9171A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0B2-5DE6-4BCA-906E-CAF8EC48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934A-357C-42B6-AB44-B17E3768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137160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623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 Continued Assessment: Pre-service Teachers’ Conceptions of Energy and the First Law of Thermodynam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84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Patricia Hug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Mary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Lansing Community Colleg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15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for Michigan Section of the American Association of Physics Teachers Fall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114920" y="276840"/>
            <a:ext cx="7061760" cy="8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Q: What is energy?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do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NERGY: (result from fundamental forces, gravitational, electromagnetic and nucle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Q: What is the law of conservation of energy? (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can be transferred from one object to another, and it can be converted from one form to another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nergy will be const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NEVER created or destroyed. Energy can be converted from one form to another but the total energy remains const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= m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ng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formation to chang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in a CAT (Classroom Assessment Techniq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reflected in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nergy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Q: What is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as “the ability to do work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 necessary input to al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have an out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Energy is not an objec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look at the results of energy transfers and transform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ability of matter to bring about changes in 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7692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nergy a for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power different than ener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“use energy” is it g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nergy is always conserved, then why do we worry about “wasting”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“making energy” the same as “creating energy”?  Or “producing energy”? How do these phrases differ? Or do they? (Added Spring 200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d Differences Fall to Sp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add more c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sil fu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other “big ideas” which should be assessed in similar mann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-152280" y="228600"/>
          <a:ext cx="92962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28600"/>
                    <a:ext cx="92962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01840" y="319320"/>
            <a:ext cx="81403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% (10/49) in Sp 2006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% (4/49)in Spring 2006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% (18/38) in Fall 2005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8% (3/38) in Fall 2005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1840" y="319320"/>
            <a:ext cx="81403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s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2% (6/49) in Sp 2006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% (3/49)in Spring 2006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% (18/38) in Fall 2005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8% (3/38) in Fall 2005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01840" y="319320"/>
            <a:ext cx="81403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tted they did not know i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.3% (9/49) in Sp 2006 (P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5% (4/38) in Fall 2005 (P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d i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% (1/49) in Sp 2006 (P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.5% (14/49) in Sp 2006 (Po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% (2/38) in Fall 2005 (P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.2% (13/38) in Fall 2006 (Po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73240" y="411120"/>
            <a:ext cx="7096680" cy="5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Fall 2005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183348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instruction assessment of Pre-service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half (47% of 38 students) energy is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ly half (47%) energy is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don’t kno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: Energy is neither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nstruction impr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% energy is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% energy i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30% cite the First Law of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issues with language on First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00640" y="495720"/>
            <a:ext cx="7619040" cy="7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ggest can make or destroy ene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4% (12/49) in Sp 2006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3% (8/49) in Spring 2006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.5% (14/49) stated it (Po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4% (7/38) in Fall 2005 (P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4% (7/38) in Fall 2005 (Pos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.2% (13/38) stated it (Po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ir response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force and power.”-Rox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power. It is used to move (push or pull) things” – Te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gard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energy to save power.” – Gayle (1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energy to make energy. When you waste energy, you don’t conserve energy. You have to put more energy into what you originally had.” – Ralph (12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- Their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ke and use energy just by being here”- A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use it (energy) more quickly than it can be replenished”- An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ould eventually run out”- Chr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- Post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used, made and conserved every day by people”. – A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uch of it is already lost, we have to keep what we can”- Ter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effectiveness of explici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e post instruction responses be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ISCI 122 have more success with photosynthesis and cellular respi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ntinued assessment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s collected, but not analyzed this Fall semester for ISCI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pre-service teacher’s conceptions of energ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ey apply their energy conceptions to the first law of thermodynamic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802800" y="345600"/>
            <a:ext cx="753840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of Pre-service Teac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ed Science for Education I and I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Science primarily (ISCI 12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Science primarily (ISCI 1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nsing Community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ing 2005 through Fall 200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s of conveni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asked during class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14920" y="276840"/>
            <a:ext cx="7061760" cy="8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wo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hort period of time to writ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respon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on Energy and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our interactive session in ISCI 1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same two questions (total time duration 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hort period of time to writ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1 minute to answer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nergy is always conserved, why is it important that we conserve (not waste) ener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a 4 in X 6 in card. Put your response on the front of the page. Your name and instructor’s name on the back of the pag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* Were marked as PRE and POST by facult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emerge from responses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Ethnograph V. 5 for assis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between ISCI 121 and ISCI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between pre and post i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ruction – ISCI 121 (Physical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used” laboratory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ulum and Inclined pl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otential and ki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blems of potential and kinetic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lery, Enger &amp; Ross’s Integrated Science by McGraw H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presentation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10360" y="352800"/>
            <a:ext cx="73663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ruction- ISCI 122 (Biological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re Unit of instruction – Flow of energy in the 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tosynthesis and cellular respi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of energy through food ch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w of thermo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w of thermodynam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7:39:10Z</dcterms:created>
  <dc:creator>LCC</dc:creator>
  <dc:description/>
  <dc:language>en-US</dc:language>
  <cp:lastModifiedBy> </cp:lastModifiedBy>
  <dcterms:modified xsi:type="dcterms:W3CDTF">2006-10-14T10:59:10Z</dcterms:modified>
  <cp:revision>18</cp:revision>
  <dc:subject/>
  <dc:title>ISCI 121- Unit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6491347</vt:r8>
  </property>
  <property fmtid="{D5CDD505-2E9C-101B-9397-08002B2CF9AE}" pid="3" name="_AuthorEmail">
    <vt:lpwstr>hugheyp@email.lcc.edu</vt:lpwstr>
  </property>
  <property fmtid="{D5CDD505-2E9C-101B-9397-08002B2CF9AE}" pid="4" name="_AuthorEmailDisplayName">
    <vt:lpwstr>Patti Hughey</vt:lpwstr>
  </property>
  <property fmtid="{D5CDD505-2E9C-101B-9397-08002B2CF9AE}" pid="5" name="_EmailSubject">
    <vt:lpwstr>MI-AAPT: Presenters for the Fall 2006 MI-AAPT Conference - do you have links/files?</vt:lpwstr>
  </property>
  <property fmtid="{D5CDD505-2E9C-101B-9397-08002B2CF9AE}" pid="6" name="_NewReviewCycle">
    <vt:lpwstr/>
  </property>
</Properties>
</file>